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9785-4B2B-403E-8652-CCC34155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899E-B16D-4165-88E3-991A2E44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958D-E936-4163-B97E-17E38BA9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ADC6-1E14-45AE-BAB8-6038A31E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0FC8-4440-4EB4-B03B-61D09AD0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2692-3F91-4D1B-B865-90F22B00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C63D-0CD7-4811-ACB7-986ED669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5A35-6293-478E-AD7A-D4BE5D68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7DCB-91EB-4E46-96E9-8BFC096B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AF71-5CC0-46C9-A06A-46C49AD8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9FCB-3C31-4CCE-AEDC-AC0CA71F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5BA6-830E-4B2A-AE1C-99A564A8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E547-F8BD-4155-AE31-2C16D0716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4800" y="7614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5880" y="1369080"/>
            <a:ext cx="1506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sgangs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t DIN A5 / A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94360"/>
            <a:ext cx="301680" cy="3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3705840"/>
            <a:ext cx="301680" cy="3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3718800"/>
            <a:ext cx="301680" cy="3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38680" y="3657600"/>
            <a:ext cx="243864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638680" y="3657240"/>
            <a:ext cx="2438640" cy="2438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3657600"/>
            <a:ext cx="2438640" cy="2438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0" y="3657600"/>
            <a:ext cx="1219320" cy="1219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638320" y="3657600"/>
            <a:ext cx="1219320" cy="1219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67480" y="3657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3657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38680" y="533520"/>
            <a:ext cx="243864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38680" y="533160"/>
            <a:ext cx="243864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533520"/>
            <a:ext cx="243864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3657600"/>
            <a:ext cx="243828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676520" y="3657240"/>
            <a:ext cx="2438280" cy="2438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3657600"/>
            <a:ext cx="2438280" cy="2438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3657600"/>
            <a:ext cx="121932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3657600"/>
            <a:ext cx="121896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9880" y="4099680"/>
            <a:ext cx="301680" cy="3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4099680"/>
            <a:ext cx="301680" cy="3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8480" y="532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1051560"/>
            <a:ext cx="301680" cy="3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6002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16002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1066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1066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838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838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2819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4099680"/>
            <a:ext cx="301680" cy="3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1051560"/>
            <a:ext cx="301680" cy="3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9907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895480" y="99036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9907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114800" y="9903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9907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34290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9907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99072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895480" y="990360"/>
            <a:ext cx="6098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99072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114800" y="99036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43800" y="16002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16002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324480" y="99036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99072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81680" y="9907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324480" y="33526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7010280" y="33526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429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81680" y="16002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10280" y="9907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796080" y="990720"/>
            <a:ext cx="138240" cy="13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9907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81680" y="99072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858000" y="99036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99072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781680" y="2133360"/>
            <a:ext cx="22860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2057400"/>
            <a:ext cx="22860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3840" y="190440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91400" y="33822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95440" y="53150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14760" y="47196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95440" y="4719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495440" y="41097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4114800"/>
            <a:ext cx="581040" cy="60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04920" y="4110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95440" y="5938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4110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04920" y="4110120"/>
            <a:ext cx="3348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61960" y="5329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1456920" y="5328720"/>
            <a:ext cx="33480" cy="60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676600" y="5328720"/>
            <a:ext cx="33120" cy="60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267080" y="411444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05360" y="4119480"/>
            <a:ext cx="581040" cy="60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5334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05360" y="4114800"/>
            <a:ext cx="0" cy="60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4114800"/>
            <a:ext cx="3312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33960" y="4724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229280" y="4724280"/>
            <a:ext cx="33120" cy="60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447880" y="4724280"/>
            <a:ext cx="33480" cy="60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48640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267080" y="4724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4724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981840" y="41144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4119480"/>
            <a:ext cx="581040" cy="60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91320" y="4114800"/>
            <a:ext cx="0" cy="11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81840" y="5334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4114800"/>
            <a:ext cx="0" cy="11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91320" y="4114800"/>
            <a:ext cx="3348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977160" y="5295960"/>
            <a:ext cx="604800" cy="3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615080" y="5305320"/>
            <a:ext cx="58104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20116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981840" y="4724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15080" y="4753080"/>
            <a:ext cx="586080" cy="5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98184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16040" y="571428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eder auffalte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1051560"/>
            <a:ext cx="301680" cy="3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943920"/>
            <a:ext cx="378000" cy="563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1066680"/>
            <a:ext cx="2438640" cy="243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1066680"/>
            <a:ext cx="609480" cy="60984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904760" y="1066680"/>
            <a:ext cx="609480" cy="60984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1066680"/>
            <a:ext cx="0" cy="243864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1066680"/>
            <a:ext cx="0" cy="243864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28954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2286000"/>
            <a:ext cx="243864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1066680"/>
            <a:ext cx="609840" cy="60984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124080" y="1066680"/>
            <a:ext cx="609840" cy="60984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81680" y="1066680"/>
            <a:ext cx="609840" cy="60984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171840" y="1066680"/>
            <a:ext cx="609480" cy="60984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91520" y="1066680"/>
            <a:ext cx="0" cy="121932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1066680"/>
            <a:ext cx="0" cy="121932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24560" y="22860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62720" y="1066680"/>
            <a:ext cx="609480" cy="60984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7391160" y="1066680"/>
            <a:ext cx="609480" cy="60984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10666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2895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8001000" y="1066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1066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91520" y="22860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562360" y="22860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524560" y="2285640"/>
            <a:ext cx="381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962480" y="2285640"/>
            <a:ext cx="33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4114800"/>
            <a:ext cx="609480" cy="60948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904760" y="4114800"/>
            <a:ext cx="609480" cy="60948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4114800"/>
            <a:ext cx="0" cy="121932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4114800"/>
            <a:ext cx="0" cy="121932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5334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4114800"/>
            <a:ext cx="609840" cy="60948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124080" y="4114800"/>
            <a:ext cx="609840" cy="60948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114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5943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733920" y="4114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41148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53341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295280" y="53341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5334120"/>
            <a:ext cx="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5334120"/>
            <a:ext cx="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53197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95280" y="5896080"/>
            <a:ext cx="60984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3129120" y="5896080"/>
            <a:ext cx="60480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4114800"/>
            <a:ext cx="609840" cy="60948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171840" y="4114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91520" y="4191120"/>
            <a:ext cx="0" cy="5331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24560" y="4724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2720" y="4114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7391160" y="4114800"/>
            <a:ext cx="609480" cy="60948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5627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5334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8001000" y="41144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524560" y="4724280"/>
            <a:ext cx="381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7962480" y="4724280"/>
            <a:ext cx="33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41148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172200" y="41148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81680" y="411480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7391520" y="41148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171840" y="4724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29240" y="4729320"/>
            <a:ext cx="642960" cy="604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8168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83240" y="4861080"/>
            <a:ext cx="1066680" cy="106668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0" y="0"/>
                </a:moveTo>
                <a:cubicBezTo>
                  <a:pt x="64" y="184"/>
                  <a:pt x="128" y="368"/>
                  <a:pt x="240" y="480"/>
                </a:cubicBezTo>
                <a:cubicBezTo>
                  <a:pt x="352" y="592"/>
                  <a:pt x="600" y="640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83840" y="589680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3640" y="464760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992040"/>
            <a:ext cx="377640" cy="563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4280" y="3992040"/>
            <a:ext cx="378000" cy="563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72200" y="39625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8480" y="532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267080" y="943920"/>
            <a:ext cx="378000" cy="563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285280" y="1905120"/>
            <a:ext cx="1066680" cy="106668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0" y="0"/>
                </a:moveTo>
                <a:cubicBezTo>
                  <a:pt x="64" y="184"/>
                  <a:pt x="128" y="368"/>
                  <a:pt x="240" y="480"/>
                </a:cubicBezTo>
                <a:cubicBezTo>
                  <a:pt x="352" y="592"/>
                  <a:pt x="600" y="640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943920"/>
            <a:ext cx="377640" cy="563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3687120"/>
            <a:ext cx="378000" cy="563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3687120"/>
            <a:ext cx="378000" cy="563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5600" y="532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11430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00200" y="114300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19520" y="1219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1752480"/>
            <a:ext cx="118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819160" y="11430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81240" y="2362320"/>
            <a:ext cx="12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429000" y="11426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3390480" y="1752480"/>
            <a:ext cx="33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114300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819520" y="11430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17524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819160" y="17524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943920"/>
            <a:ext cx="378000" cy="563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990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33720" y="1143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1600200" y="236196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1752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1719360"/>
            <a:ext cx="42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1143000"/>
            <a:ext cx="42840" cy="5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176560" y="1143000"/>
            <a:ext cx="33120" cy="5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133360" y="11430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133360" y="17524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133360" y="1752480"/>
            <a:ext cx="759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800600" y="114300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1143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4800600" y="236196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1752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1719360"/>
            <a:ext cx="42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4120" y="1143000"/>
            <a:ext cx="42840" cy="5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376960" y="1143000"/>
            <a:ext cx="33120" cy="5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333760" y="11430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333760" y="17524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333760" y="1752480"/>
            <a:ext cx="759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114300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1143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486400" y="236196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1752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443200" y="1143000"/>
            <a:ext cx="42840" cy="5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10080" y="1143000"/>
            <a:ext cx="33480" cy="5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1143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1752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10080" y="1752480"/>
            <a:ext cx="763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43560" y="1719360"/>
            <a:ext cx="42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72280" y="23670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7138800" y="11383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748640" y="1138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7138800" y="2357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39160" y="1747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772400" y="1139760"/>
            <a:ext cx="58572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772400" y="1138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7767720" y="2356920"/>
            <a:ext cx="59040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58120" y="1747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48640" y="1138320"/>
            <a:ext cx="2232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43720" y="1442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053560" y="1442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599840" y="38098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05120" y="3809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1599840" y="5334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28880" y="3811680"/>
            <a:ext cx="28080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28880" y="3809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924200" y="5334120"/>
            <a:ext cx="28548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5120" y="3809880"/>
            <a:ext cx="2196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4114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09680" y="4114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00200" y="4114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1600200" y="50288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1925280" y="4114800"/>
            <a:ext cx="284040" cy="29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1928880" y="5032440"/>
            <a:ext cx="28080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0020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28880" y="5029200"/>
            <a:ext cx="28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11360" y="4095720"/>
            <a:ext cx="293760" cy="291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929960" y="4100400"/>
            <a:ext cx="260280" cy="27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30320" y="5065560"/>
            <a:ext cx="260280" cy="27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614600" y="5057640"/>
            <a:ext cx="288720" cy="290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267080"/>
            <a:ext cx="304920" cy="457200"/>
          </a:xfrm>
          <a:custGeom>
            <a:avLst/>
            <a:gdLst>
              <a:gd name="textAreaLeft" fmla="*/ 40680 w 304920"/>
              <a:gd name="textAreaRight" fmla="*/ 264240 w 304920"/>
              <a:gd name="textAreaTop" fmla="*/ 70560 h 457200"/>
              <a:gd name="textAreaBottom" fmla="*/ 3409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671" stAng="-5400000" swAng="-5400000"/>
                <a:lnTo>
                  <a:pt x="0" y="12769"/>
                </a:lnTo>
                <a:arcTo wR="21600" hR="6671" stAng="10800000" swAng="-2468308"/>
                <a:lnTo>
                  <a:pt x="14400" y="21218"/>
                </a:lnTo>
                <a:lnTo>
                  <a:pt x="21600" y="16391"/>
                </a:lnTo>
                <a:lnTo>
                  <a:pt x="14400" y="10800"/>
                </a:lnTo>
                <a:lnTo>
                  <a:pt x="14400" y="12960"/>
                </a:lnTo>
                <a:arcTo wR="21600" hR="6671" stAng="8331692" swAng="1927237"/>
                <a:lnTo>
                  <a:pt x="2388" y="9720"/>
                </a:lnTo>
                <a:arcTo wR="21600" hR="6671" stAng="-10258929" swAng="4858929"/>
                <a:close/>
              </a:path>
              <a:path fill="darkenLess" w="21600" h="21600">
                <a:moveTo>
                  <a:pt x="21600" y="0"/>
                </a:moveTo>
                <a:arcTo wR="21600" hR="6671" stAng="-5400000" swAng="-5400000"/>
                <a:lnTo>
                  <a:pt x="0" y="6671"/>
                </a:lnTo>
                <a:arcTo wR="21600" hR="6671" stAng="10800000" swAng="-541071"/>
                <a:lnTo>
                  <a:pt x="2388" y="9720"/>
                </a:lnTo>
                <a:arcTo wR="21600" hR="6671" stAng="-10258929" swAng="4858929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65960" y="4799880"/>
            <a:ext cx="7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mdre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629400" y="3687120"/>
            <a:ext cx="378000" cy="563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938760" y="38098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43320" y="3809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67080" y="3811680"/>
            <a:ext cx="28116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67080" y="3809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43320" y="3809880"/>
            <a:ext cx="2232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3876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4824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38760" y="41148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38760" y="502884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263840" y="4114800"/>
            <a:ext cx="284040" cy="29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4266720" y="5032440"/>
            <a:ext cx="28116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3384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43320" y="5029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3633480" y="4114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33840" y="4419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3633480" y="50288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548240" y="50288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48240" y="4114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67080" y="4419720"/>
            <a:ext cx="58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467120" y="38098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772400" y="38098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467480" y="4114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77320" y="4114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7467480" y="50288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7772040" y="50288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162920" y="5029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077320" y="5029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7162920" y="41148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1629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7162920" y="502884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8077320" y="502884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077320" y="41148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0773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467480" y="5029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467480" y="50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67480" y="4876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4T17:12:39Z</dcterms:created>
  <dc:creator>LANG</dc:creator>
  <dc:description/>
  <dc:language>en-US</dc:language>
  <cp:lastModifiedBy>LANG</cp:lastModifiedBy>
  <cp:lastPrinted>1999-03-05T15:48:23Z</cp:lastPrinted>
  <dcterms:modified xsi:type="dcterms:W3CDTF">1999-03-15T21:50:22Z</dcterms:modified>
  <cp:revision>12</cp:revision>
  <dc:subject/>
  <dc:title>Kein Folientitel</dc:title>
</cp:coreProperties>
</file>