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E60-53C6-46FA-BB2F-894F0C4D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D51-34BB-4AE5-B6FE-B1042C2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756-1FCA-4030-A752-D74E50FF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AB2-0E1D-4869-9E61-9F619FE8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DC4-BF70-4409-A38F-368B347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52-9474-40D5-B830-5FCC8C9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2D1-A41C-4FD5-BC90-57BCEFEE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F9C-24AF-4350-B2B3-5967248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E30-DB8B-43E0-8EE4-CE56636F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9FC-21FB-44C4-A0D9-1FF87B0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786-4193-476B-97FB-8777202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0A1-66A5-4DCF-93E7-58FA9BA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AF28-2D08-48A3-94EC-4B2805DB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533520"/>
            <a:ext cx="26668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57800" y="5335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 rot="5400000">
            <a:off x="5334120" y="608400"/>
            <a:ext cx="2514600" cy="2514600"/>
          </a:xfrm>
          <a:custGeom>
            <a:avLst/>
            <a:gdLst/>
            <a:ahLst/>
            <a:rect l="l" t="t" r="r" b="b"/>
            <a:pathLst>
              <a:path w="1584" h="1584">
                <a:moveTo>
                  <a:pt x="0" y="0"/>
                </a:moveTo>
                <a:cubicBezTo>
                  <a:pt x="156" y="372"/>
                  <a:pt x="312" y="744"/>
                  <a:pt x="576" y="1008"/>
                </a:cubicBezTo>
                <a:cubicBezTo>
                  <a:pt x="840" y="1272"/>
                  <a:pt x="1472" y="1504"/>
                  <a:pt x="1584" y="158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971440" y="46450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480" y="912"/>
                </a:moveTo>
                <a:cubicBezTo>
                  <a:pt x="328" y="772"/>
                  <a:pt x="176" y="632"/>
                  <a:pt x="96" y="480"/>
                </a:cubicBezTo>
                <a:cubicBezTo>
                  <a:pt x="16" y="328"/>
                  <a:pt x="24" y="72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5040" y="3841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26840" y="31273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4640" y="59738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7440" y="4800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300640" y="35809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00640" y="6248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7967520" y="35809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300640" y="6205320"/>
            <a:ext cx="261936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924680" y="3580920"/>
            <a:ext cx="42840" cy="26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69680" y="49561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405480" y="5143320"/>
            <a:ext cx="48600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97880" y="609588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00640" y="4838760"/>
            <a:ext cx="2514600" cy="1333440"/>
          </a:xfrm>
          <a:custGeom>
            <a:avLst/>
            <a:gdLst/>
            <a:ahLst/>
            <a:rect l="l" t="t" r="r" b="b"/>
            <a:pathLst>
              <a:path w="1584" h="840">
                <a:moveTo>
                  <a:pt x="0" y="840"/>
                </a:moveTo>
                <a:cubicBezTo>
                  <a:pt x="180" y="540"/>
                  <a:pt x="360" y="240"/>
                  <a:pt x="624" y="120"/>
                </a:cubicBezTo>
                <a:cubicBezTo>
                  <a:pt x="888" y="0"/>
                  <a:pt x="1432" y="72"/>
                  <a:pt x="1584" y="12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262160" y="35809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62160" y="6248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29040" y="35809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62160" y="6205320"/>
            <a:ext cx="261936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86200" y="3580920"/>
            <a:ext cx="42840" cy="26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31200" y="49561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62160" y="5143320"/>
            <a:ext cx="266688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858080" y="5157720"/>
            <a:ext cx="763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7760" y="76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9560" y="1369080"/>
            <a:ext cx="1229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gangs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 DIN 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5943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70584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0720" y="4343400"/>
            <a:ext cx="22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u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egen, aber nicht knick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dern nur Punk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rkier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70584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040" y="2437560"/>
            <a:ext cx="28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r Becher läßt sich echt mit Wasser fü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1762200" y="719280"/>
            <a:ext cx="15620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7560" y="3386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24240" y="71928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57560" y="3342960"/>
            <a:ext cx="101916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81400" y="719280"/>
            <a:ext cx="4284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61840" y="2280960"/>
            <a:ext cx="48564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47840" y="2280960"/>
            <a:ext cx="107640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781280" y="2276280"/>
            <a:ext cx="1533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7560" y="2281320"/>
            <a:ext cx="1062000" cy="1104840"/>
          </a:xfrm>
          <a:custGeom>
            <a:avLst/>
            <a:gdLst/>
            <a:ahLst/>
            <a:rect l="l" t="t" r="r" b="b"/>
            <a:pathLst>
              <a:path w="669" h="696">
                <a:moveTo>
                  <a:pt x="0" y="696"/>
                </a:moveTo>
                <a:cubicBezTo>
                  <a:pt x="120" y="589"/>
                  <a:pt x="240" y="482"/>
                  <a:pt x="351" y="366"/>
                </a:cubicBezTo>
                <a:cubicBezTo>
                  <a:pt x="462" y="250"/>
                  <a:pt x="565" y="125"/>
                  <a:pt x="66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971960" y="3381120"/>
            <a:ext cx="22089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868800" y="1492560"/>
            <a:ext cx="754560" cy="77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65120" y="1490400"/>
            <a:ext cx="1904400" cy="19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873840" y="1558440"/>
            <a:ext cx="752040" cy="71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082560" y="1549080"/>
            <a:ext cx="788040" cy="72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87400" y="2265480"/>
            <a:ext cx="431280" cy="111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086880" y="2266200"/>
            <a:ext cx="1535760" cy="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90840" y="2283480"/>
            <a:ext cx="108504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4960" y="224316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947880" y="5914440"/>
            <a:ext cx="2209320" cy="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844360" y="4026240"/>
            <a:ext cx="754560" cy="77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40320" y="4023360"/>
            <a:ext cx="1905120" cy="19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63320" y="4798800"/>
            <a:ext cx="431280" cy="11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62440" y="4799880"/>
            <a:ext cx="1535400" cy="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066400" y="4817160"/>
            <a:ext cx="10846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056320" y="4802040"/>
            <a:ext cx="7779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40040" y="4809960"/>
            <a:ext cx="752040" cy="71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1600200"/>
            <a:ext cx="152280" cy="1371600"/>
          </a:xfrm>
          <a:custGeom>
            <a:avLst/>
            <a:gdLst/>
            <a:ahLst/>
            <a:rect l="l" t="t" r="r" b="b"/>
            <a:pathLst>
              <a:path w="96" h="864">
                <a:moveTo>
                  <a:pt x="96" y="0"/>
                </a:moveTo>
                <a:cubicBezTo>
                  <a:pt x="48" y="144"/>
                  <a:pt x="0" y="288"/>
                  <a:pt x="0" y="432"/>
                </a:cubicBezTo>
                <a:cubicBezTo>
                  <a:pt x="0" y="576"/>
                  <a:pt x="80" y="792"/>
                  <a:pt x="96" y="86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8280" y="5927400"/>
            <a:ext cx="22089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06560" y="4038840"/>
            <a:ext cx="754560" cy="77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260040" y="4036320"/>
            <a:ext cx="1905120" cy="19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11240" y="4811400"/>
            <a:ext cx="431280" cy="11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10320" y="4819680"/>
            <a:ext cx="428760" cy="111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62880" y="1673280"/>
            <a:ext cx="76104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409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40910"/>
              </a:path>
            </a:pathLst>
          </a:custGeom>
          <a:noFill/>
          <a:ln w="93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190440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518148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0560 h 457200"/>
              <a:gd name="textAreaBottom" fmla="*/ 3409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4360" y="571428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dre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3640" y="46483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31760" y="57913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4483080"/>
            <a:ext cx="2514600" cy="1308240"/>
          </a:xfrm>
          <a:custGeom>
            <a:avLst/>
            <a:gdLst/>
            <a:ahLst/>
            <a:rect l="l" t="t" r="r" b="b"/>
            <a:pathLst>
              <a:path w="1584" h="824">
                <a:moveTo>
                  <a:pt x="1584" y="824"/>
                </a:moveTo>
                <a:cubicBezTo>
                  <a:pt x="1380" y="516"/>
                  <a:pt x="1176" y="208"/>
                  <a:pt x="912" y="104"/>
                </a:cubicBezTo>
                <a:cubicBezTo>
                  <a:pt x="648" y="0"/>
                  <a:pt x="152" y="184"/>
                  <a:pt x="0" y="20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43280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2393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23936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41984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4080" y="76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1828800" y="3743640"/>
            <a:ext cx="664560" cy="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392840" y="1849320"/>
            <a:ext cx="744480" cy="77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142000" y="1852920"/>
            <a:ext cx="783360" cy="7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4280" y="2631960"/>
            <a:ext cx="430920" cy="11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7880" y="2630880"/>
            <a:ext cx="152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96800" y="2641320"/>
            <a:ext cx="1090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87600" y="2639520"/>
            <a:ext cx="43488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21320" y="3735720"/>
            <a:ext cx="664560" cy="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200120" y="2625840"/>
            <a:ext cx="753120" cy="7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952880" y="2634120"/>
            <a:ext cx="758880" cy="75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86800" y="2624040"/>
            <a:ext cx="430920" cy="11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0400" y="2622960"/>
            <a:ext cx="152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89320" y="2633400"/>
            <a:ext cx="109080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80120" y="2631600"/>
            <a:ext cx="43488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26146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00160" y="1971720"/>
            <a:ext cx="152640" cy="1371600"/>
          </a:xfrm>
          <a:custGeom>
            <a:avLst/>
            <a:gdLst/>
            <a:ahLst/>
            <a:rect l="l" t="t" r="r" b="b"/>
            <a:pathLst>
              <a:path w="96" h="864">
                <a:moveTo>
                  <a:pt x="96" y="0"/>
                </a:moveTo>
                <a:cubicBezTo>
                  <a:pt x="48" y="144"/>
                  <a:pt x="0" y="288"/>
                  <a:pt x="0" y="432"/>
                </a:cubicBezTo>
                <a:cubicBezTo>
                  <a:pt x="0" y="576"/>
                  <a:pt x="80" y="792"/>
                  <a:pt x="96" y="86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475760" y="3745080"/>
            <a:ext cx="664560" cy="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054560" y="2635200"/>
            <a:ext cx="753120" cy="75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07320" y="2643840"/>
            <a:ext cx="758880" cy="75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41600" y="2633400"/>
            <a:ext cx="431280" cy="111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043400" y="2642760"/>
            <a:ext cx="10904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134200" y="2641320"/>
            <a:ext cx="43524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2640" y="26258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89520" y="2629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53120" y="2638440"/>
            <a:ext cx="1495440" cy="52200"/>
          </a:xfrm>
          <a:custGeom>
            <a:avLst/>
            <a:gdLst/>
            <a:ahLst/>
            <a:rect l="l" t="t" r="r" b="b"/>
            <a:pathLst>
              <a:path w="942" h="33">
                <a:moveTo>
                  <a:pt x="0" y="3"/>
                </a:moveTo>
                <a:cubicBezTo>
                  <a:pt x="149" y="18"/>
                  <a:pt x="299" y="33"/>
                  <a:pt x="456" y="33"/>
                </a:cubicBezTo>
                <a:cubicBezTo>
                  <a:pt x="613" y="33"/>
                  <a:pt x="866" y="5"/>
                  <a:pt x="94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67520" y="2581200"/>
            <a:ext cx="1495440" cy="52560"/>
          </a:xfrm>
          <a:custGeom>
            <a:avLst/>
            <a:gdLst/>
            <a:ahLst/>
            <a:rect l="l" t="t" r="r" b="b"/>
            <a:pathLst>
              <a:path w="942" h="33">
                <a:moveTo>
                  <a:pt x="0" y="3"/>
                </a:moveTo>
                <a:cubicBezTo>
                  <a:pt x="149" y="18"/>
                  <a:pt x="299" y="33"/>
                  <a:pt x="456" y="33"/>
                </a:cubicBezTo>
                <a:cubicBezTo>
                  <a:pt x="613" y="33"/>
                  <a:pt x="866" y="5"/>
                  <a:pt x="94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43280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76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1419840"/>
            <a:ext cx="3016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7160" y="1312200"/>
            <a:ext cx="37800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4T17:12:39Z</dcterms:created>
  <dc:creator>LANG</dc:creator>
  <dc:description/>
  <dc:language>en-US</dc:language>
  <cp:lastModifiedBy>LANG</cp:lastModifiedBy>
  <cp:lastPrinted>1999-03-04T20:54:37Z</cp:lastPrinted>
  <dcterms:modified xsi:type="dcterms:W3CDTF">1999-03-18T17:01:10Z</dcterms:modified>
  <cp:revision>5</cp:revision>
  <dc:subject/>
  <dc:title>Kein Folientitel</dc:title>
</cp:coreProperties>
</file>